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8.jpeg" ContentType="image/jpeg"/>
  <Override PartName="/ppt/media/image26.jpeg" ContentType="image/jpeg"/>
  <Override PartName="/ppt/media/image25.jpeg" ContentType="image/jpeg"/>
  <Override PartName="/ppt/media/image15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823B-5E43-432D-934D-CFD957DD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DEA-871A-441C-8109-5C65FCD9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563-0924-44D7-B98A-681D0945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96A2-56B0-4F25-A119-9FFFFB5E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86D-C2C9-4EDC-98CB-29A49476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381D-BD27-4409-B364-884D09DF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56E-C434-4F1F-A2F1-C01E98F9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708-8205-48E0-8570-C5F5ABB5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276-5328-45D6-88A5-A9EE1D60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A616-083B-4332-A4E2-26F13D9D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9AB-EA38-4C19-85BC-11E4142F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B18-99B4-4CE3-8F09-BF52EC52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7559-93FA-4F57-9AB1-887E00FFC5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hcir_hSyRLo" TargetMode="External"/><Relationship Id="rId2" Type="http://schemas.openxmlformats.org/officeDocument/2006/relationships/hyperlink" Target="https://bilimland.kz/ru/courses/informatika-ru/5-klass/lesson/pravila-texniki-bezopasnosti-i-organizacziya-rabochego-mesta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Отгадайте ребу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ÐÐ°ÑÑÐ¸Ð½ÐºÐ¸ Ð¿Ð¾ Ð·Ð°Ð¿ÑÐ¾ÑÑ ÑÐµÐ±ÑÑ Ð½Ð° ÐºÐ¾Ð¼Ð¿ÑÑÑÐµÑ"/>
          <p:cNvPicPr/>
          <p:nvPr/>
        </p:nvPicPr>
        <p:blipFill>
          <a:blip r:embed="rId1"/>
          <a:stretch/>
        </p:blipFill>
        <p:spPr>
          <a:xfrm>
            <a:off x="762120" y="2133720"/>
            <a:ext cx="76406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Ответ на задание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980640"/>
            <a:ext cx="8229600" cy="55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68360" y="1125360"/>
          <a:ext cx="8280360" cy="518328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806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ыво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4376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0" lang="kk-K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шь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0" lang="kk-K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крофон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kk-K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ер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0" lang="kk-K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б-камер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лус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0" lang="kk-K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нитор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0" lang="kk-K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виатура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effd5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kk-K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шники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0" lang="kk-K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лонки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kk-K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нтер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kk-K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ектор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ттер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effd5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Times New Roman"/>
              </a:rPr>
              <a:t>Персональный компьютер состоит из трех частей (основные устройства)</a:t>
            </a:r>
            <a:r>
              <a:rPr b="0" i="1" lang="ru-RU" sz="3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74096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стройство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ыво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информации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ИТОР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стройство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вода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формации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ЛАВИАТУР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стройства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работк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 хранен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нформации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расположены в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ИСТЕМНОМ БЛОК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Image result for монитор компьютера"/>
          <p:cNvPicPr/>
          <p:nvPr/>
        </p:nvPicPr>
        <p:blipFill>
          <a:blip r:embed="rId1"/>
          <a:stretch/>
        </p:blipFill>
        <p:spPr>
          <a:xfrm>
            <a:off x="6624720" y="1703520"/>
            <a:ext cx="1612800" cy="1233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Image result for клавиатура"/>
          <p:cNvPicPr/>
          <p:nvPr/>
        </p:nvPicPr>
        <p:blipFill>
          <a:blip r:embed="rId2"/>
          <a:stretch/>
        </p:blipFill>
        <p:spPr>
          <a:xfrm>
            <a:off x="6205680" y="3192480"/>
            <a:ext cx="2647800" cy="1104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Image result for системный блок"/>
          <p:cNvPicPr/>
          <p:nvPr/>
        </p:nvPicPr>
        <p:blipFill>
          <a:blip r:embed="rId3"/>
          <a:srcRect l="9984" t="0" r="12569" b="0"/>
          <a:stretch/>
        </p:blipFill>
        <p:spPr>
          <a:xfrm>
            <a:off x="6821640" y="4494240"/>
            <a:ext cx="14158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Times New Roman"/>
              </a:rPr>
              <a:t>Дополнительные устройства компьютера</a:t>
            </a:r>
            <a:r>
              <a:rPr b="0" i="1" lang="ru-RU" sz="3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Группа 6"/>
          <p:cNvGrpSpPr/>
          <p:nvPr/>
        </p:nvGrpSpPr>
        <p:grpSpPr>
          <a:xfrm>
            <a:off x="996840" y="1192320"/>
            <a:ext cx="7320240" cy="5124240"/>
            <a:chOff x="996840" y="1192320"/>
            <a:chExt cx="7320240" cy="5124240"/>
          </a:xfrm>
        </p:grpSpPr>
        <p:pic>
          <p:nvPicPr>
            <p:cNvPr id="91" name="Picture 4" descr="ÐÐ°ÑÑÐ¸Ð½ÐºÐ¸ Ð¿Ð¾ Ð·Ð°Ð¿ÑÐ¾ÑÑ Ð´Ð¾Ð¿Ð¾Ð»Ð½Ð¸ÑÐµÐ»ÑÐ½ÑÐµ ÑÑÑÑÐ¾Ð¹ÑÑÐ²Ð° ÐºÐ¾Ð¼Ð¿ÑÑÑÐµÑÐ°"/>
            <p:cNvPicPr/>
            <p:nvPr/>
          </p:nvPicPr>
          <p:blipFill>
            <a:blip r:embed="rId1"/>
            <a:srcRect l="9205" t="0" r="10163" b="0"/>
            <a:stretch/>
          </p:blipFill>
          <p:spPr>
            <a:xfrm>
              <a:off x="5976720" y="4509360"/>
              <a:ext cx="234036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6" descr="ÐÐ¾ÑÐ¾Ð¶ÐµÐµ Ð¸Ð·Ð¾Ð±ÑÐ°Ð¶ÐµÐ½Ð¸Ðµ"/>
            <p:cNvPicPr/>
            <p:nvPr/>
          </p:nvPicPr>
          <p:blipFill>
            <a:blip r:embed="rId2"/>
            <a:stretch/>
          </p:blipFill>
          <p:spPr>
            <a:xfrm>
              <a:off x="4362120" y="4509360"/>
              <a:ext cx="161460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8" descr="ÐÐ¾ÑÐ¾Ð¶ÐµÐµ Ð¸Ð·Ð¾Ð±ÑÐ°Ð¶ÐµÐ½Ð¸Ðµ"/>
            <p:cNvPicPr/>
            <p:nvPr/>
          </p:nvPicPr>
          <p:blipFill>
            <a:blip r:embed="rId3"/>
            <a:stretch/>
          </p:blipFill>
          <p:spPr>
            <a:xfrm>
              <a:off x="997560" y="4509360"/>
              <a:ext cx="1669320" cy="180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0" descr="ÐÐ¾ÑÐ¾Ð¶ÐµÐµ Ð¸Ð·Ð¾Ð±ÑÐ°Ð¶ÐµÐ½Ð¸Ðµ"/>
            <p:cNvPicPr/>
            <p:nvPr/>
          </p:nvPicPr>
          <p:blipFill>
            <a:blip r:embed="rId4"/>
            <a:srcRect l="12251" t="10861" r="1270" b="4581"/>
            <a:stretch/>
          </p:blipFill>
          <p:spPr>
            <a:xfrm>
              <a:off x="2612160" y="4509360"/>
              <a:ext cx="1749600" cy="18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Группа 5"/>
            <p:cNvGrpSpPr/>
            <p:nvPr/>
          </p:nvGrpSpPr>
          <p:grpSpPr>
            <a:xfrm>
              <a:off x="996840" y="1192320"/>
              <a:ext cx="7320240" cy="3456360"/>
              <a:chOff x="996840" y="1192320"/>
              <a:chExt cx="7320240" cy="3456360"/>
            </a:xfrm>
          </p:grpSpPr>
          <p:pic>
            <p:nvPicPr>
              <p:cNvPr id="96" name="Picture 2" descr="ÐÐ¾ÑÐ¾Ð¶ÐµÐµ Ð¸Ð·Ð¾Ð±ÑÐ°Ð¶ÐµÐ½Ð¸Ðµ"/>
              <p:cNvPicPr/>
              <p:nvPr/>
            </p:nvPicPr>
            <p:blipFill>
              <a:blip r:embed="rId5"/>
              <a:srcRect l="2835" t="22682" r="-163" b="-3312"/>
              <a:stretch/>
            </p:blipFill>
            <p:spPr>
              <a:xfrm>
                <a:off x="996840" y="1192320"/>
                <a:ext cx="7320240" cy="34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Прямоугольник 4"/>
              <p:cNvSpPr/>
              <p:nvPr/>
            </p:nvSpPr>
            <p:spPr>
              <a:xfrm>
                <a:off x="6397920" y="3946680"/>
                <a:ext cx="17064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Устройства вв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12840" y="1684440"/>
            <a:ext cx="24480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авиату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н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б-кам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кроф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ÐÐ°ÑÑÐ¸Ð½ÐºÐ¸ Ð¿Ð¾ Ð·Ð°Ð¿ÑÐ¾ÑÑ ÑÑÑÑÐ¾Ð¹ÑÑÐ²Ð° Ð²Ð²Ð¾Ð´Ð°"/>
          <p:cNvPicPr/>
          <p:nvPr/>
        </p:nvPicPr>
        <p:blipFill>
          <a:blip r:embed="rId1"/>
          <a:srcRect l="2287" t="14765" r="1323" b="819"/>
          <a:stretch/>
        </p:blipFill>
        <p:spPr>
          <a:xfrm>
            <a:off x="2635200" y="1784520"/>
            <a:ext cx="6051600" cy="3976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Устройства выв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700280"/>
            <a:ext cx="2170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и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т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ш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он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ÐÐ°ÑÑÐ¸Ð½ÐºÐ¸ Ð¿Ð¾ Ð·Ð°Ð¿ÑÐ¾ÑÑ ÑÑÑÑÐ¾Ð¹ÑÑÐ²Ð° Ð²ÑÐ²Ð¾Ð´Ð°"/>
          <p:cNvPicPr/>
          <p:nvPr/>
        </p:nvPicPr>
        <p:blipFill>
          <a:blip r:embed="rId1"/>
          <a:srcRect l="1342" t="14765" r="2268" b="819"/>
          <a:stretch/>
        </p:blipFill>
        <p:spPr>
          <a:xfrm>
            <a:off x="2746440" y="1700280"/>
            <a:ext cx="5940360" cy="4091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4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8424720" cy="403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s://st2.depositphotos.com/1967477/8364/v/950/depositphotos_83642494-stock-illustration-happy-cartoon-emoticon-thinking.jpg"/>
          <p:cNvPicPr/>
          <p:nvPr/>
        </p:nvPicPr>
        <p:blipFill>
          <a:blip r:embed="rId2"/>
          <a:stretch/>
        </p:blipFill>
        <p:spPr>
          <a:xfrm>
            <a:off x="684360" y="438120"/>
            <a:ext cx="1726920" cy="230832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низ 1"/>
          <p:cNvSpPr/>
          <p:nvPr/>
        </p:nvSpPr>
        <p:spPr>
          <a:xfrm>
            <a:off x="1476360" y="2997360"/>
            <a:ext cx="431640" cy="115236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Стрелка вправо 2"/>
          <p:cNvSpPr/>
          <p:nvPr/>
        </p:nvSpPr>
        <p:spPr>
          <a:xfrm rot="513000">
            <a:off x="2322000" y="2130480"/>
            <a:ext cx="3476880" cy="4334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Стрелка вправо 3"/>
          <p:cNvSpPr/>
          <p:nvPr/>
        </p:nvSpPr>
        <p:spPr>
          <a:xfrm rot="1811400">
            <a:off x="2053800" y="2990880"/>
            <a:ext cx="1797120" cy="37152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410920" y="1179000"/>
            <a:ext cx="630252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ичать и называть основные элементы компьютера: (например, клавиатуру, мышь, системный блок и монитор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мнить основные правила техники безопасности при работе с компьютер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569880" y="361800"/>
            <a:ext cx="81360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Gabriola"/>
              </a:rPr>
              <a:t>Устройства компьютер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ÐÐ°ÑÑÐ¸Ð½ÐºÐ¸ Ð¿Ð¾ Ð·Ð°Ð¿ÑÐ¾ÑÑ ÐºÐ¾Ð¼Ð¿ÑÑÑÐµÑ"/>
          <p:cNvPicPr/>
          <p:nvPr/>
        </p:nvPicPr>
        <p:blipFill>
          <a:blip r:embed="rId1"/>
          <a:stretch/>
        </p:blipFill>
        <p:spPr>
          <a:xfrm>
            <a:off x="189000" y="1352520"/>
            <a:ext cx="209052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94920" y="1179000"/>
            <a:ext cx="831852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ть устройства ввода и объяснять их назначение на элементарном уровн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ять устройства вывода и ввода по внешнему вид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числять основные правила техники безопасности при работе с цифровыми устройств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569880" y="361800"/>
            <a:ext cx="81360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ритерии оцени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802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ля чего человек создал компьютер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9840" y="1900080"/>
            <a:ext cx="7993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облегчения умственной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ьютер создан в середине ХХ 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" descr="ÐÐ°ÑÑÐ¸Ð½ÐºÐ¸ Ð¿Ð¾ Ð·Ð°Ð¿ÑÐ¾ÑÑ ÐºÐ¾Ð¼Ð¿ÑÑÑÐµÑ"/>
          <p:cNvPicPr/>
          <p:nvPr/>
        </p:nvPicPr>
        <p:blipFill>
          <a:blip r:embed="rId1"/>
          <a:stretch/>
        </p:blipFill>
        <p:spPr>
          <a:xfrm>
            <a:off x="3852720" y="3224160"/>
            <a:ext cx="2578320" cy="2243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Вырезка экрана"/>
          <p:cNvPicPr/>
          <p:nvPr/>
        </p:nvPicPr>
        <p:blipFill>
          <a:blip r:embed="rId2"/>
          <a:stretch/>
        </p:blipFill>
        <p:spPr>
          <a:xfrm>
            <a:off x="712800" y="3224160"/>
            <a:ext cx="2847960" cy="27748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Вырезка экрана"/>
          <p:cNvPicPr/>
          <p:nvPr/>
        </p:nvPicPr>
        <p:blipFill>
          <a:blip r:embed="rId3"/>
          <a:stretch/>
        </p:blipFill>
        <p:spPr>
          <a:xfrm>
            <a:off x="6686640" y="3224160"/>
            <a:ext cx="14824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802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смотр виде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9840" y="1900080"/>
            <a:ext cx="7993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50021"/>
                </a:solidFill>
                <a:uFillTx/>
                <a:latin typeface="Times New Roman"/>
                <a:hlinkClick r:id="rId1"/>
              </a:rPr>
              <a:t>https://www.youtube.com/watch?v=hcir_hSyRL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устройства компьюте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-202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50021"/>
                </a:solidFill>
                <a:uFillTx/>
                <a:latin typeface="Times New Roman"/>
                <a:hlinkClick r:id="rId2"/>
              </a:rPr>
              <a:t>https://bilimland.kz/ru/courses/informatika-ru/5-klass/lesson/pravila-texniki-bezopasnosti-i-organizacziya-rabochego-mest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правила Т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580240" cy="13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Есть ли в природе прототип компьютер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Схема 1" descr=""/>
          <p:cNvPicPr/>
          <p:nvPr/>
        </p:nvPicPr>
        <p:blipFill>
          <a:blip r:embed="rId1"/>
          <a:stretch/>
        </p:blipFill>
        <p:spPr>
          <a:xfrm>
            <a:off x="530280" y="2243160"/>
            <a:ext cx="8192880" cy="434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ÐÐ°ÑÑÐ¸Ð½ÐºÐ¸ Ð¿Ð¾ Ð·Ð°Ð¿ÑÐ¾ÑÑ ÐºÐ¾Ð¼Ð¿ÑÑÑÐµÑ"/>
          <p:cNvPicPr/>
          <p:nvPr/>
        </p:nvPicPr>
        <p:blipFill>
          <a:blip r:embed="rId2"/>
          <a:stretch/>
        </p:blipFill>
        <p:spPr>
          <a:xfrm>
            <a:off x="927000" y="3297240"/>
            <a:ext cx="2413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997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Персональный компьюте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64000" y="1628280"/>
            <a:ext cx="5122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мпьютер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– это устройства для сбора, обработки, хранения и вывода информа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пьютер называется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персональны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потому что за ним работает один человек и использует удобные для него устройства ввода и вывода информа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ÐÐ°ÑÑÐ¸Ð½ÐºÐ¸ Ð¿Ð¾ Ð·Ð°Ð¿ÑÐ¾ÑÑ ÐºÐ¾Ð¼Ð¿ÑÑÑÐµÑ"/>
          <p:cNvPicPr/>
          <p:nvPr/>
        </p:nvPicPr>
        <p:blipFill>
          <a:blip r:embed="rId1"/>
          <a:stretch/>
        </p:blipFill>
        <p:spPr>
          <a:xfrm>
            <a:off x="341280" y="1676520"/>
            <a:ext cx="32925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Times New Roman"/>
              </a:rPr>
              <a:t>Выполните задания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907920"/>
            <a:ext cx="856908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 1: каждому устройству подберите назва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C:\Documents and Settings\User\Рабочий стол\работа для 1 сентября\8.gif"/>
          <p:cNvPicPr/>
          <p:nvPr/>
        </p:nvPicPr>
        <p:blipFill>
          <a:blip r:embed="rId1"/>
          <a:stretch/>
        </p:blipFill>
        <p:spPr>
          <a:xfrm>
            <a:off x="217440" y="1974960"/>
            <a:ext cx="2143080" cy="1606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C:\Documents and Settings\User\Рабочий стол\работа для 1 сентября\4.gif"/>
          <p:cNvPicPr/>
          <p:nvPr/>
        </p:nvPicPr>
        <p:blipFill>
          <a:blip r:embed="rId2"/>
          <a:stretch/>
        </p:blipFill>
        <p:spPr>
          <a:xfrm>
            <a:off x="324000" y="3692520"/>
            <a:ext cx="1589040" cy="1785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:\Documents and Settings\User\Рабочий стол\работа для 1 сентября\5.gif"/>
          <p:cNvPicPr/>
          <p:nvPr/>
        </p:nvPicPr>
        <p:blipFill>
          <a:blip r:embed="rId3"/>
          <a:stretch/>
        </p:blipFill>
        <p:spPr>
          <a:xfrm>
            <a:off x="722160" y="5805360"/>
            <a:ext cx="792360" cy="7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C:\Documents and Settings\User\Рабочий стол\работа для 1 сентября\7.gif"/>
          <p:cNvPicPr/>
          <p:nvPr/>
        </p:nvPicPr>
        <p:blipFill>
          <a:blip r:embed="rId4"/>
          <a:stretch/>
        </p:blipFill>
        <p:spPr>
          <a:xfrm rot="355200">
            <a:off x="6514920" y="1815840"/>
            <a:ext cx="1952280" cy="146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Documents and Settings\User\Рабочий стол\работа для 1 сентября\14.gif"/>
          <p:cNvPicPr/>
          <p:nvPr/>
        </p:nvPicPr>
        <p:blipFill>
          <a:blip r:embed="rId5"/>
          <a:stretch/>
        </p:blipFill>
        <p:spPr>
          <a:xfrm>
            <a:off x="6732720" y="3335400"/>
            <a:ext cx="1666800" cy="1251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Documents and Settings\User\Рабочий стол\работа для 1 сентября\м.gif"/>
          <p:cNvPicPr/>
          <p:nvPr/>
        </p:nvPicPr>
        <p:blipFill>
          <a:blip r:embed="rId6"/>
          <a:stretch/>
        </p:blipFill>
        <p:spPr>
          <a:xfrm>
            <a:off x="6672240" y="4836960"/>
            <a:ext cx="1785960" cy="1339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Documents and Settings\User\Рабочий стол\работа для 1 сентября\15.png"/>
          <p:cNvPicPr/>
          <p:nvPr/>
        </p:nvPicPr>
        <p:blipFill>
          <a:blip r:embed="rId7"/>
          <a:stretch/>
        </p:blipFill>
        <p:spPr>
          <a:xfrm>
            <a:off x="3635280" y="4119480"/>
            <a:ext cx="1285920" cy="2400480"/>
          </a:xfrm>
          <a:prstGeom prst="rect">
            <a:avLst/>
          </a:prstGeom>
          <a:ln w="0">
            <a:noFill/>
          </a:ln>
        </p:spPr>
      </p:pic>
      <p:sp>
        <p:nvSpPr>
          <p:cNvPr id="70" name="Скругленный прямоугольник 13"/>
          <p:cNvSpPr/>
          <p:nvPr/>
        </p:nvSpPr>
        <p:spPr>
          <a:xfrm>
            <a:off x="5172120" y="1760400"/>
            <a:ext cx="1428840" cy="428760"/>
          </a:xfrm>
          <a:prstGeom prst="roundRect">
            <a:avLst>
              <a:gd name="adj" fmla="val 16667"/>
            </a:avLst>
          </a:prstGeom>
          <a:solidFill>
            <a:srgbClr val="feffd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кругленный прямоугольник 14"/>
          <p:cNvSpPr/>
          <p:nvPr/>
        </p:nvSpPr>
        <p:spPr>
          <a:xfrm>
            <a:off x="1855800" y="5689440"/>
            <a:ext cx="1428840" cy="428760"/>
          </a:xfrm>
          <a:prstGeom prst="roundRect">
            <a:avLst>
              <a:gd name="adj" fmla="val 16667"/>
            </a:avLst>
          </a:prstGeom>
          <a:solidFill>
            <a:srgbClr val="feffd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О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Скругленный прямоугольник 15"/>
          <p:cNvSpPr/>
          <p:nvPr/>
        </p:nvSpPr>
        <p:spPr>
          <a:xfrm>
            <a:off x="1906560" y="4746600"/>
            <a:ext cx="1714680" cy="428760"/>
          </a:xfrm>
          <a:prstGeom prst="roundRect">
            <a:avLst>
              <a:gd name="adj" fmla="val 16667"/>
            </a:avLst>
          </a:prstGeom>
          <a:solidFill>
            <a:srgbClr val="feffd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Скругленный прямоугольник 16"/>
          <p:cNvSpPr/>
          <p:nvPr/>
        </p:nvSpPr>
        <p:spPr>
          <a:xfrm>
            <a:off x="5145120" y="4614840"/>
            <a:ext cx="1428840" cy="428760"/>
          </a:xfrm>
          <a:prstGeom prst="roundRect">
            <a:avLst>
              <a:gd name="adj" fmla="val 16667"/>
            </a:avLst>
          </a:prstGeom>
          <a:solidFill>
            <a:srgbClr val="feffd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кругленный прямоугольник 17"/>
          <p:cNvSpPr/>
          <p:nvPr/>
        </p:nvSpPr>
        <p:spPr>
          <a:xfrm>
            <a:off x="2486160" y="3335400"/>
            <a:ext cx="1149120" cy="428400"/>
          </a:xfrm>
          <a:prstGeom prst="roundRect">
            <a:avLst>
              <a:gd name="adj" fmla="val 16667"/>
            </a:avLst>
          </a:prstGeom>
          <a:solidFill>
            <a:srgbClr val="feffd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ЫШ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Скругленный прямоугольник 18"/>
          <p:cNvSpPr/>
          <p:nvPr/>
        </p:nvSpPr>
        <p:spPr>
          <a:xfrm>
            <a:off x="4572000" y="3073320"/>
            <a:ext cx="1785960" cy="641520"/>
          </a:xfrm>
          <a:prstGeom prst="roundRect">
            <a:avLst>
              <a:gd name="adj" fmla="val 16667"/>
            </a:avLst>
          </a:prstGeom>
          <a:solidFill>
            <a:srgbClr val="feffd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Скругленный прямоугольник 19"/>
          <p:cNvSpPr/>
          <p:nvPr/>
        </p:nvSpPr>
        <p:spPr>
          <a:xfrm>
            <a:off x="2570040" y="2119320"/>
            <a:ext cx="1428840" cy="428760"/>
          </a:xfrm>
          <a:prstGeom prst="roundRect">
            <a:avLst>
              <a:gd name="adj" fmla="val 16667"/>
            </a:avLst>
          </a:prstGeom>
          <a:solidFill>
            <a:srgbClr val="feffd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Задание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980640"/>
            <a:ext cx="8229600" cy="55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 список цифровых устройств. Распределите по группа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авиату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онитор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ыш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аушни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икрофон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олон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канер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ринт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3348000" y="3933720"/>
            <a:ext cx="55450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*Дополнительный списо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роек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еб-кам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лоттер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тилу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97200" y="2133720"/>
          <a:ext cx="6095880" cy="7412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ыв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Арингазинова Алия</cp:lastModifiedBy>
  <cp:lastPrinted>2017-10-07T06:30:27Z</cp:lastPrinted>
  <dcterms:modified xsi:type="dcterms:W3CDTF">2018-07-23T06:17:16Z</dcterms:modified>
  <cp:revision>401</cp:revision>
  <dc:subject/>
  <dc:title>Слайд 1</dc:title>
</cp:coreProperties>
</file>